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249960" y="8609040"/>
            <a:ext cx="4492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7240" y="8785080"/>
            <a:ext cx="2619360" cy="3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50040" bIns="50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2006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7520"/>
                <a:tab algn="l" pos="4830840"/>
                <a:tab algn="l" pos="4889520"/>
                <a:tab algn="l" pos="5500800"/>
                <a:tab algn="l" pos="6111720"/>
                <a:tab algn="l" pos="6723000"/>
                <a:tab algn="l" pos="7334280"/>
                <a:tab algn="l" pos="7945560"/>
                <a:tab algn="l" pos="8556480"/>
                <a:tab algn="l" pos="9167760"/>
                <a:tab algn="l" pos="9779040"/>
                <a:tab algn="l" pos="103903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entation_ID.sc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52280" y="8799480"/>
            <a:ext cx="665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Num" idx="1"/>
          </p:nvPr>
        </p:nvSpPr>
        <p:spPr>
          <a:xfrm>
            <a:off x="5929200" y="8679960"/>
            <a:ext cx="812880" cy="2876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077FCBBE-57E0-405F-82C3-B2BD5557D7D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2A8A79F-8095-4917-B63B-691E5529E93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04640" y="4378320"/>
            <a:ext cx="612144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isco Networking Academy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T Essentials  v5.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pter 12: Advanced Troubleshoo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3.1.2 Common Problems and Solutions for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5DDBB939-280F-400F-93A4-31B15A275AC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4.1.1 Apply Troubleshooting Process to 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77F6895-8C42-4E14-9151-89D0C8ED1A8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4.1.1 Apply Troubleshooting Process to Laptop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4.1.2 Common Problems and Solutions for Lap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A34EC48-EEC6-4B63-AAFE-67CCCD396F6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5.1.1 Apply Troubleshooting Process to Pr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E655AE04-A3B0-4B67-BBB0-94540E47E26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5.1.1 Apply Troubleshooting Process to Printer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5.1.2 Common Problems and Solutions for Pr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81022DE8-7653-44BB-8B45-48D7BC3C363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6.1.1 Apply Troubleshooting Process to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79E323C-83E6-450A-AE88-B005D2AD1ED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6.1.1 Apply Troubleshooting Process to Security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2D31A744-29A0-4EF7-8AEB-D686C725FA8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6.1.2 Common Problems and Solutions for 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AAC05B7-24CD-4524-A54C-12810F709D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pter 12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43376C02-4955-49D1-9520-ED8AB9966E8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CA24453A-7563-44B6-AECB-64C9ECB5F5B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pter 12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1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D42D684F-CF35-49E0-B8DE-0D03268B66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1.1.1 Apply Troubleshooting Process to Computer Components and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1.1.1 Apply Troubleshooting Process to Computer Components and Periphe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1.1.2 Common Problems and Solutions for Components and Peripher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e chart in Curric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CC89F8A-CBEA-4536-8306-E20DA6A312F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2.1.1 Apply Troubleshooting Process to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7B468269-D3F9-4DE5-8D34-A8A0F1BE354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2.1.1 Apply Troubleshooting Process to Operating System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1F6336A2-47E8-42F1-B6AC-C5D5C98A8F49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2.1.2 Common Problems and Solutions for Operating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FAC832D9-2774-4439-A2D3-5DBC31C7582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3.1.1 Apply Troubleshooting Process to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932D3A69-EFBE-4568-8988-2DB1201F43D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244440"/>
            <a:ext cx="5321520" cy="39909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68240" y="4378320"/>
            <a:ext cx="5469120" cy="4253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50040" bIns="50040" anchor="t">
            <a:noAutofit/>
          </a:bodyPr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3.1.1 Apply Troubleshooting Process to Network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5929200" y="8680320"/>
            <a:ext cx="812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fld id="{A634CE98-5B06-44E9-9894-681EDDCB311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880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55200" y="7984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2464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5560" y="3880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2464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44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5320" y="2014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5556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44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5320" y="3880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79848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880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2014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880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1 Chapte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5CACF1E-D9BC-4F7F-84E1-78A5D074EB3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7" descr="PPt_TopBand_Artwork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4521240" y="6672240"/>
            <a:ext cx="222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-2010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PPt_CoverArt1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521240" y="6672240"/>
            <a:ext cx="2225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-2010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1 Chapter 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6D2E401-715D-4BBD-A2B6-1892F6C9544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Cisco_NewLogo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isco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55560" y="2014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-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 indent="113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 indent="2170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 indent="2170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0880" y="2244240"/>
            <a:ext cx="4392720" cy="13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2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anced Troubleshooting</a:t>
            </a:r>
            <a:br>
              <a:rPr sz="3200"/>
            </a:b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79232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Essentials v5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mmon Problems and Solutions for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74640" y="1862280"/>
            <a:ext cx="7940880" cy="4443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problems can be attributed to hardware, software, network, or some combination of the th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Connection 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caused by incorrect TCP/IP configurations, firewall settings, or failed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ail Fail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caused by incorrect email software settings, firewall settings, or hardware connectivit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TP and Secure Internet Connection Probl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caused by incorrect IP address, port setting, or security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t of Common Problems and Solu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urricu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Lapt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4892760" y="18795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4971960" y="2495520"/>
            <a:ext cx="3505320" cy="1233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743040" y="2438280"/>
            <a:ext cx="337176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Laptops (Continued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758880" y="207000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4813200" y="203040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4927680" y="4468680"/>
            <a:ext cx="3416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819000" y="2698920"/>
            <a:ext cx="3448080" cy="1873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4857840" y="3009960"/>
            <a:ext cx="3486240" cy="106668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14"/>
          <p:cNvSpPr/>
          <p:nvPr/>
        </p:nvSpPr>
        <p:spPr>
          <a:xfrm>
            <a:off x="831960" y="4925880"/>
            <a:ext cx="34160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Printer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892760" y="18795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915080" y="2590920"/>
            <a:ext cx="3409920" cy="1307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781200" y="2381400"/>
            <a:ext cx="3257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Printers (continued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44400" y="1994040"/>
            <a:ext cx="334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832280" y="201132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5"/>
          <p:cNvSpPr/>
          <p:nvPr/>
        </p:nvSpPr>
        <p:spPr>
          <a:xfrm>
            <a:off x="4946760" y="4221000"/>
            <a:ext cx="341604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723960" y="2711520"/>
            <a:ext cx="33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933800" y="2990880"/>
            <a:ext cx="3391200" cy="914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6"/>
          <p:cNvSpPr/>
          <p:nvPr/>
        </p:nvSpPr>
        <p:spPr>
          <a:xfrm>
            <a:off x="774720" y="471636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Secur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892760" y="18795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4943520" y="2571840"/>
            <a:ext cx="3371760" cy="13986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781200" y="2400480"/>
            <a:ext cx="3333600" cy="25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Security (Continued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797040" y="201312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4965840" y="1973160"/>
            <a:ext cx="34160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5060880" y="4240080"/>
            <a:ext cx="3416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876240" y="2685960"/>
            <a:ext cx="3371760" cy="15051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5029200" y="2990880"/>
            <a:ext cx="3352680" cy="933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6"/>
          <p:cNvSpPr/>
          <p:nvPr/>
        </p:nvSpPr>
        <p:spPr>
          <a:xfrm>
            <a:off x="907920" y="456408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mmon Problems and Solutions for Securit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74640" y="1785960"/>
            <a:ext cx="7940880" cy="4672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problems can be attributed to hardware, software, network, or some combination of the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ware Set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lware protection problems are often related to incorrect software settings or configur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Accounts and Permiss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authorized access or blocked access is often caused by incorrect user account settings or incorrect permiss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ecurity 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caused by incorrect security settings in the BIOS or on the hard dr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ewall and Proxy Set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17360">
              <a:lnSpc>
                <a:spcPct val="95000"/>
              </a:lnSpc>
              <a:spcBef>
                <a:spcPts val="7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ed connections to resources and the Internet are often related to incorrect firewall and proxy r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t of Common Problems and Solu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urricul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pter 12 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74640" y="1766520"/>
            <a:ext cx="7940880" cy="4519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described how to apply the six step troubleshooting process to advanc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pter also presented advanced diagnostic questions to ask when gathering information about a computer hardware or software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scribed more advanced versions of common problems and solutions for Computer Components and Peripherals, Operating Systems, Networks, Laptops, Printers, and Secu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explained techniques to troubleshoot more complex hardware and softwar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NA_largo-onwhite"/>
          <p:cNvPicPr/>
          <p:nvPr/>
        </p:nvPicPr>
        <p:blipFill>
          <a:blip r:embed="rId1"/>
          <a:stretch/>
        </p:blipFill>
        <p:spPr>
          <a:xfrm>
            <a:off x="1508040" y="2741760"/>
            <a:ext cx="6097680" cy="8920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hapter 12 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5200" y="1698480"/>
            <a:ext cx="7954920" cy="5159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 Identify and practice advanced skills in troubleshooting techniques and diagnostic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1 Identify and apply the steps of the troubleshooting process to  solve Computer Components and Peripherals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2 Identify and apply the steps of the troubleshooting process to  solve Operating System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3 Identify and apply the steps of the troubleshooting process to solve Network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4 Identify and apply the steps of the troubleshooting process to solve Laptop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 Identify and apply the steps of the troubleshooting process to solve Printer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6 Identify and apply the steps of the troubleshooting process to solve Security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Computer Components and Periphera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4921200" y="2138400"/>
            <a:ext cx="3994200" cy="32655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85840" y="1714680"/>
            <a:ext cx="455292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dentify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ablish a Theory of Probable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st the Theory to Determine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ablish a Plan of Action to Resolve the Problem and Implement th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Verify Full System Functionality and Implement Preventativ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43080" y="6153120"/>
            <a:ext cx="84960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marL="236520" indent="-236520">
              <a:lnSpc>
                <a:spcPct val="95000"/>
              </a:lnSpc>
              <a:spcBef>
                <a:spcPts val="499"/>
              </a:spcBef>
              <a:spcAft>
                <a:spcPts val="499"/>
              </a:spcAft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ocument Findings, Actions,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Computer Components and Periphera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4794120" y="187812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663480" y="2203560"/>
            <a:ext cx="334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777960" y="414648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4813200" y="267804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4908600" y="5040360"/>
            <a:ext cx="3416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730080" y="2724120"/>
            <a:ext cx="3517920" cy="1344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81200" y="4743360"/>
            <a:ext cx="3536640" cy="1676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4757760" y="3600360"/>
            <a:ext cx="368136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Operating System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4892760" y="18795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723960" y="2362320"/>
            <a:ext cx="3276720" cy="21715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4956120" y="2457360"/>
            <a:ext cx="3500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Operating Systems (Continued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806400" y="2457360"/>
            <a:ext cx="3581280" cy="1522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4861080" y="2743200"/>
            <a:ext cx="3722400" cy="13762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831960" y="4259160"/>
            <a:ext cx="34160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777960" y="191772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832280" y="187812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927680" y="4392720"/>
            <a:ext cx="3416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mmon Problems and Solutions for Operating System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560" y="2014200"/>
            <a:ext cx="7940880" cy="444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system problems can be attributed to hardware, software, network, or some combination of the th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op error is a hardware or software malfunction that causes the system to lock up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-1159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ue Screen of Death (BSOD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when the system is unable to recover from a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 Log and other diagnostic utilities are available to research a stop error or BSOD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t of Common Problems and Solu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urricul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63480" y="1879560"/>
            <a:ext cx="334188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92760" y="18795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Theory of Probabl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991040" y="2514600"/>
            <a:ext cx="3333960" cy="1104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743040" y="2381400"/>
            <a:ext cx="33717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7984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pply Troubleshooting Process to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797040" y="1974960"/>
            <a:ext cx="3341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the Theory to Determine C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4794120" y="191628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5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Full System Functionality and, if applicable, Implement Preventive Measu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4851360" y="4964040"/>
            <a:ext cx="341640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6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 Findings, Actions and Outco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876240" y="2571840"/>
            <a:ext cx="3494160" cy="102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4838760" y="2838600"/>
            <a:ext cx="352404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7"/>
          <p:cNvSpPr/>
          <p:nvPr/>
        </p:nvSpPr>
        <p:spPr>
          <a:xfrm>
            <a:off x="907920" y="4087800"/>
            <a:ext cx="3416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tablish a Plan of Action to Resolve the Problem and Implement the Solu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5:07:30Z</dcterms:created>
  <dc:creator>Cisco Systems, Inc.</dc:creator>
  <dc:description/>
  <dc:language>en-US</dc:language>
  <cp:lastModifiedBy>John</cp:lastModifiedBy>
  <cp:lastPrinted>1999-01-27T00:54:54Z</cp:lastPrinted>
  <dcterms:modified xsi:type="dcterms:W3CDTF">2012-12-25T21:33:03Z</dcterms:modified>
  <cp:revision>274</cp:revision>
  <dc:subject>Guide for Creating Powerpoint Presentations</dc:subject>
  <dc:title>Before You Begin: Assign Information Classification</dc:title>
</cp:coreProperties>
</file>